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arrow.wav" ContentType="audio/x-wav"/>
  <Override PartName="/ppt/media/drumroll.wav" ContentType="audio/x-wav"/>
  <Override PartName="/ppt/media/carbrake.wav" ContentType="audio/x-wav"/>
  <Override PartName="/ppt/media/image3.png" ContentType="image/png"/>
  <Override PartName="/ppt/media/chimes.wav" ContentType="audio/x-wav"/>
  <Override PartName="/ppt/media/image4.png" ContentType="image/png"/>
  <Override PartName="/ppt/media/cashreg.wav" ContentType="audio/x-wav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F2C-93D5-49A6-8C6F-1E6D0FBB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AE3-01AC-4ADB-BDE2-97A0CD30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299C-B055-4B0F-A045-56BA4407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BC4-83A6-408F-9EA0-E9E8DA2F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45C2-AFF7-4E7E-A56C-2C96CE3E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F23E-49E9-4058-9F2D-9AFE7E39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C3E9-5932-438C-AD6D-BE21C465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9979-CB3C-4230-9C02-ECA9ADB6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7E24-027A-41B4-A3DB-A31A29F0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3969-2C35-459B-B542-8E5E57FB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11E1-C17E-4D92-8027-60520993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1C8-3F3F-4FE1-9FBB-D4ED675D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ADED-7457-47A8-966E-CB5C11DC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1B3F-CAF5-448E-B5D1-D246AEE5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24FC-B829-4D9E-83B4-635D1CAF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C5F4-BA54-4118-BD48-E63F28D0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AD91-5EDE-4553-AA96-0242C080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C41-E156-415D-B092-B8620E9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08F-6135-4F65-BEB1-640E0C88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D7F-B249-4697-9BE0-6A5153D8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B8C-C8DA-40A9-83D9-D5129710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793-5E37-43BA-8FEB-5E8EE128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94F-A8B8-4AAB-A0A1-063BADA7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74D0-4EC6-4CD7-A401-105959E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8846-CEB0-4A35-9044-4719F13821C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238B-EBD3-4715-B7F9-D9266713737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295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By Brian Duno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Visualize the critical characteristic of the water molecule that allows it to be such a good solvent, namely its polar nature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Rate of Dissolving, Structure of Water Dissoci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Rectangle 5"/>
          <p:cNvSpPr/>
          <p:nvPr/>
        </p:nvSpPr>
        <p:spPr>
          <a:xfrm rot="214800">
            <a:off x="2462040" y="14811120"/>
            <a:ext cx="2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1026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45520" cy="125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is project is designed to supplement Unit 1 Section C of the (Chemistry in the Communit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Physic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Oceanograph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Environmental Sci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push dir="u"/>
    <p:sndAc>
      <p:stSnd>
        <p:snd r:embed="rId2" name="drumroll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706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1:Rate of Dissolv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Excel or other graphing progra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2: Structure of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ydrogen Bonding Effe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Hexagonal arrangement of molecules in i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imulab #3: Dissociation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comb dir="vert"/>
    <p:sndAc>
      <p:stSnd>
        <p:snd r:embed="rId2" name="cashreg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ook Antiqua"/>
              </a:rPr>
              <a:t>I hope you liked my project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2:25:29Z</dcterms:created>
  <dc:creator>rentex </dc:creator>
  <dc:description/>
  <dc:language>en-US</dc:language>
  <cp:lastModifiedBy>howard</cp:lastModifiedBy>
  <dcterms:modified xsi:type="dcterms:W3CDTF">2010-09-29T21:53:46Z</dcterms:modified>
  <cp:revision>14</cp:revision>
  <dc:subject/>
  <dc:title>Water:  The Universal Solvent</dc:title>
</cp:coreProperties>
</file>